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70A6A-E06B-4858-A5CF-C3350DB56F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7B67F-C03A-4000-9F7D-73717EE9DF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BFC83AC-2BE2-495C-8CA8-57451216D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36939-E6AA-4053-99DD-EB4E60649E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C6C7097-4E89-4608-902E-F25D31FAD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163C362-2453-4615-AF5B-E8DE16A246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2F18FE1-0A66-438C-A118-4145DC00E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EF3F61C-BB01-41FF-8998-F0FD70558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5722931-A12A-45ED-8133-6E22B32CB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476A7-5412-4D9E-B335-47DB7FEEA2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AD70F-E54E-4EBC-B715-A806B06C6B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32C25-4039-420D-A3FC-C8BA72D3C1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94721-1898-47B6-A5F2-FEA75CD23B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969C2-DD38-42CC-B3E9-BEF3D4AC1B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03D3-D8B2-47D4-BFC9-D67A7DC77F7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FA5D-8383-4014-8161-8B39E572714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44EB-894D-4E11-BD70-B6C70D7334E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0A36-DD7A-466A-83E0-8EF8635DF32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EB2C-8856-4FAC-9808-6A071DADA68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16F8-C757-4904-BA64-A1D5BE82633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80DD-CB3F-4082-867A-8C0D72E726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5DCDB-CD92-479F-8D6F-037D4C78EB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EE3C-237F-4A11-8368-B33D4CF2B59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AB29-6DCA-4093-8A01-791705B2AC6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C551-F7C9-4945-80BE-3021173AC21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B3AA-B51C-44B7-BE56-8CB60A2295C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71B0-A8A8-40F5-ACA1-1DBDFD190E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2F772-71DE-427B-A64B-F44A0BDA5E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4EDD8-A9F8-4F2B-8F45-C13AE2B92E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03503-211A-411B-A623-3CA3F34E9B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36662-E5FF-45A2-B55B-3F98CC7421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62459-0AE3-48CE-B944-3315327568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E29F1-6580-4F16-A25C-3735F7A58D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6952F-CEB7-4258-9F72-AD3ED15929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43162-A64D-4825-B3E5-274D54873F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79318-816D-483F-8532-0E7E421BEF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Introduction to Quality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C70D-1F11-4739-B5F6-2406F586111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ortant part of quality management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 is to identify errors and eliminate them before reporting patient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 methods applied for quantitative, qualitative, and semi-quantitative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45A7A-2363-492E-878B-00E09881473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32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247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248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249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254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257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258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263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268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272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275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281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284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287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EE6DC-BBEF-40D6-BCA1-D647B34EFD7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quality control and describe its relationship to the overall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cribe differences in quantitative, qualitative, and semi-quantitative examina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49C2C-68F9-4AC6-8124-DB47B644DDA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3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18B51-53C1-414E-91C3-F14CA4460BB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y Control  (Q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art of quality management focused on fulfilling quality requirement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SO 9000:2000  (3.4.10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C is examining “control” materials of known substances along with patient samples to monitor the accuracy and precision of the complete examination (analytic) proces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C37B6-BE92-4C50-A75D-D39D7C5CE3A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po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0880" y="19051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goal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 of QC is to detect errors and correct them before patients’ results are report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8E188-E34D-4505-B3C3-94ED68E572B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tative Examin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asu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quantity of a particular substance in a sam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6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97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98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0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ments should be both accurate and 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238AF-0562-4FC4-ABAB-F1219FE9FC4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ative Examination Method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ations that do not have numerical result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wth or no grow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or neg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ctive or non-reactiv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or 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2535120" cy="1697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B5CCD-45A5-43CF-B196-386D93C0861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emi-quantitative Examination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ults are expressed as an estimate of the measured substance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amount”, “moderate amount,” or “1+, 2+, or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of cells per microscopic fiel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iters and dilutions in serologic te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4D298-5170-4C92-A799-318C4C84262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666720" y="750600"/>
            <a:ext cx="7962480" cy="5356800"/>
            <a:chOff x="666720" y="750600"/>
            <a:chExt cx="7962480" cy="5356800"/>
          </a:xfrm>
        </p:grpSpPr>
        <p:sp>
          <p:nvSpPr>
            <p:cNvPr id="216" name="_s10255"/>
            <p:cNvSpPr/>
            <p:nvPr/>
          </p:nvSpPr>
          <p:spPr>
            <a:xfrm flipH="1">
              <a:off x="265752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0254"/>
            <p:cNvSpPr/>
            <p:nvPr/>
          </p:nvSpPr>
          <p:spPr>
            <a:xfrm>
              <a:off x="666720" y="2759040"/>
              <a:ext cx="1990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Review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QC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10253"/>
            <p:cNvSpPr/>
            <p:nvPr/>
          </p:nvSpPr>
          <p:spPr>
            <a:xfrm>
              <a:off x="4647960" y="40982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252"/>
            <p:cNvSpPr/>
            <p:nvPr/>
          </p:nvSpPr>
          <p:spPr>
            <a:xfrm>
              <a:off x="3652560" y="4767840"/>
              <a:ext cx="1990440" cy="1339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Assur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complet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documenta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251"/>
            <p:cNvSpPr/>
            <p:nvPr/>
          </p:nvSpPr>
          <p:spPr>
            <a:xfrm>
              <a:off x="564300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10250"/>
            <p:cNvSpPr/>
            <p:nvPr/>
          </p:nvSpPr>
          <p:spPr>
            <a:xfrm>
              <a:off x="6638400" y="2759040"/>
              <a:ext cx="1990800" cy="1338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ll sta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10249"/>
            <p:cNvSpPr/>
            <p:nvPr/>
          </p:nvSpPr>
          <p:spPr>
            <a:xfrm flipV="1">
              <a:off x="4647960" y="20894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48"/>
            <p:cNvSpPr/>
            <p:nvPr/>
          </p:nvSpPr>
          <p:spPr>
            <a:xfrm>
              <a:off x="3652560" y="750600"/>
              <a:ext cx="199044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stablish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written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olicies an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rocedu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247"/>
            <p:cNvSpPr/>
            <p:nvPr/>
          </p:nvSpPr>
          <p:spPr>
            <a:xfrm>
              <a:off x="3652560" y="2759040"/>
              <a:ext cx="199044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819520" y="2590920"/>
            <a:ext cx="3733560" cy="157392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C Program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1219320"/>
            <a:ext cx="1295280" cy="60948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62920" y="990720"/>
            <a:ext cx="16002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clude correctiv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FB73C-35BD-46B6-A78C-879AF09AE08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6:02:30Z</dcterms:created>
  <dc:creator>Owner</dc:creator>
  <dc:description/>
  <dc:language>en-US</dc:language>
  <cp:lastModifiedBy>bergera</cp:lastModifiedBy>
  <dcterms:modified xsi:type="dcterms:W3CDTF">2009-05-19T13:26:15Z</dcterms:modified>
  <cp:revision>37</cp:revision>
  <dc:subject/>
  <dc:title>Quality Control Overview</dc:title>
</cp:coreProperties>
</file>